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06B-390F-441F-B3E2-7F89A435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980-0D27-4314-8016-1735A606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B6E-C8BF-4A62-9C52-A3E10A9D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A7C-7F24-4C5C-8FA2-2B94B1A4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361-6823-4B2A-A6DD-7F0A5A04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D7F-BB24-4FFD-910D-CF54EEFF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74B-4396-4C06-9368-3F22B50F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AB6-6C90-42DA-813B-9E4BD2CF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2A6-D7BB-425D-8FAE-32223792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7AF-A4BE-4675-9E9D-AF7787E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082-F042-4430-B088-8820432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2CD-BB2E-460B-83EE-19A8F2E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D595-7236-4DB9-A44E-17D4F77C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844640"/>
            <a:ext cx="7129440" cy="143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rbon 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3789360"/>
            <a:ext cx="714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arbon, Silicon, Germanuim, Tin, L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Metals, Metals, and Metallo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is a Non-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 and Germanium are Metallo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and Lead are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hey are loc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located at 4A. It is reactive and have 4 valence numbers. Also 4 electrons in the outer sh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16:41Z</dcterms:created>
  <dc:creator>tatumadmin</dc:creator>
  <dc:description/>
  <dc:language>en-US</dc:language>
  <cp:lastModifiedBy>tatumadmin</cp:lastModifiedBy>
  <dcterms:modified xsi:type="dcterms:W3CDTF">2009-12-03T21:25:49Z</dcterms:modified>
  <cp:revision>2</cp:revision>
  <dc:subject/>
  <dc:title>Slide 1</dc:title>
</cp:coreProperties>
</file>